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AB12-7949-4BFD-8717-00017491E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E67B-0D43-4477-8A75-2C704953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F77DC7-0765-4195-A3F6-FFD75206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716039-ED5E-41B1-8F83-45E05B13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E9DE3-DBDF-4167-8423-F5CE8A47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C15E5-CE03-434F-A6E3-12E42B29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63687C-3531-4AC1-8AB3-0278DC30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B427AE-0D95-4477-9C02-E7857929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8C8400-38A1-4C14-8674-DA7A27FA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9E09C0-B740-4AFB-A9EF-EEBA2FC93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02AD22-6F85-486B-9837-88F80E78F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174EDA-AC75-4FBF-9FFA-ABF26870D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9247-88E4-4623-AE26-541C553D7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F86617-4A42-4E29-B2D5-BA937969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281028-8F13-4E51-807A-84044CEC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AB2000-3EF4-4992-9A7B-D98BBC1B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94FBDF-8A30-492E-9FD9-F968E020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6CF0AC-0D4E-4A25-A180-608CB2F9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930B87-D526-4C55-93F0-B3F5188D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981B49-41B4-4727-8CEB-AAB23BB6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147439-3F00-4085-BE97-5FA416BD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16A95F-3133-4B06-9FC5-1CDEFD98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B69B27-86E0-4C51-AC71-58AF0F3DA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AF34-D9D5-4046-A8EC-2337EB4DA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AC2EFB-BB4A-4317-9CB6-6AF34FA4A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9FC9E3-2643-406A-B613-9108548B2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8947E-92A6-4508-B239-66BFBAB5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5F5F8-ECC0-4A9F-B90A-2995756F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0D5DB6-6D64-4B98-A642-17F3027F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4D049-C136-4BBA-AEA0-34F8B483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E92FD7-0696-4A17-9D21-E4606F3C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98F1AE-D5E8-43FB-A24D-9FA887D8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A92DAB-46D1-452B-BE47-88549C9A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CDFDE-78F9-490E-B6CD-DDBA714E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B84F-6EAC-417F-B0A2-6C2ED9946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B13415-AACA-4CA0-963B-3EA6546C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11080-BC1D-45DA-8E96-34E54537C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DE030-2A6E-4CC5-881E-0AD4D49C8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24CE46-DD13-4B0F-949D-DDF863464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DE7B3A-3007-4FC7-A5C0-A0B04236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290288-E811-4AFC-8389-BF22E807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CB71B1-5A54-46CC-A1D3-B4362094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158C43-98B5-480E-8615-566B830B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56BDE6-8A7E-496E-9D4B-228EB73F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473ABD-AFC0-403D-8A9A-D6A4E0AF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F664-48E6-4824-9593-73085BF1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ACF3E8-2C76-4D78-BA73-6044D960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A8C53E-D2D0-4202-9FAC-B59C45DC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7DF894-8488-4001-B42F-988E2E66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23C0EA-CB4C-47F2-8A23-DFC9BE330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E5AF03-5D6F-438C-8781-B530AA924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07AAEE-B141-4362-AC12-85C52F2B0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AC6711-9FA4-4DAC-89D4-FD835ADC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BBDC30-CA10-4868-AEB3-49765517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7A483C-933F-4754-8970-11622D86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E65768-CE01-4248-94BC-E2C3004F1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B9F3-0F2C-4D47-A384-08D70EDC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B0AA50-6F2B-4376-858A-7ED2C38B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2738CD-9A00-4D3A-AFCE-B2B03E7F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007582-2D6F-4BD4-9D22-78BF361C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31A217-2F93-4D64-ACC0-1351A381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402787-E5D8-4329-A339-B4D77FD5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C926D2-C8FC-4EE3-9BAD-AC3020835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509DA3-98BF-4815-B08C-00E4D2A12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A1B7BA-6AF6-4CB3-A676-FAB117B32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84A421-F7BB-46D3-9989-F37F2275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59849E-B0B1-4215-BEE9-FC5EE16A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0406-80DB-4A25-8B2A-2634FC3C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C9D866-8282-4C45-B772-AE743645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610B38-AD35-43BB-A5D6-E3281411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BDBF8D-3C51-403F-8BA0-3BD6FD64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ED392D-E0AE-47DF-86C2-9FAE25A4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4736F4-F7D5-4458-A7D1-D7199AA5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68E41C-BF42-453E-A24C-341D5BC0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A11378-A0A4-4034-B832-58DD88C2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5B8E99-9D23-4F68-A691-1C42907CB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4B1FF9-F05B-4DA6-AAA1-A3DFF5EA8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27B11A-5DCB-4D59-8AA9-7C0250B9C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5293D-6FC7-495C-9F29-BDD8DA1E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D1E40D-515E-413B-A109-915111B6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F6338F-2718-4ADD-8E02-A37F8BB4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14D2AC-BF3F-4328-A8C9-E9701CFD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C61F1F-622A-4E14-9A20-87CE77E2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FECE02-D04C-4004-B894-B7C66C61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200473-99E0-4A06-B182-E78ED8D8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DBFFF5-4BDA-4FE3-8840-39EB10FD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029734-1A5D-4B53-AAD2-3FC2F399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90B610-EBA3-4F55-B029-DC18F3CF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194E3B-E8B5-4B01-8144-D52FB9064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E8CF-6D48-43DD-9A04-11073957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21C1B4-6B0B-4818-9331-FF8565484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5506ED-D190-470B-A03C-986C5158F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905A46-16B7-492D-84C7-7242274D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CB1956-49BA-48AA-A11D-741B0E2C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CEB53C-0E45-4D3F-B188-68D3FA05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CBFAE0-C20D-41DD-A991-7FEEF55F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2FDCDE-E5D8-4188-B2A9-FA2D653B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A2B502-D70F-4E67-BF2B-0375DD52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D4BCF6-D615-49C1-A9BF-4DCEAA3A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7B96D6-53D6-45A3-9E15-E0BDDA2F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7747-BFC7-4B92-8510-8AB73293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0062D9-9C16-4105-8EBE-FCC61BFD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ECAC0D-A3E9-4126-9883-DA67A1DB1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C56802-BB30-4976-A162-34928FFE4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C1679A-B3DB-4D55-A2BF-1204EE6FD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EEDFE9-0057-48D9-A8F9-83D58381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0BAC63-D718-492D-B4CC-2137C3D3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B7D572-3EE1-46F5-94CB-2B2BB791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B49EDC-1805-41CA-807C-AF50C4CF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8CD986-8D48-471C-92B6-571E18B0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7A2346-DC05-49BA-A656-71A19ACE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300E-7C1C-47CE-848C-8B7BBF44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8D21-4EE6-496D-B738-1C2EED14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8BA3E8-D1AF-4B68-8436-2DFF0B34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487403-1AA8-4B21-87C2-9EEE2D56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C74A9C-6C66-41DD-89D1-8F5DE24D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374AED-731C-411D-BBE6-37510C115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779F6E-069B-4AAD-84B3-00C70C785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4DE12E-FBC2-4183-8CAA-97D8EC25E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BE1A33-68E6-4DCC-9D8E-254C2767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82287B-EA55-4CC5-97DB-291BBABA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5E47E6-8D26-4BD5-A96C-66DFBB56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866767-B6CD-4E29-9AB4-3A3BE703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6A4C-4859-41A1-AF93-10A1BB00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0DA5FB-94F7-43EE-81E7-EE3F21D1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A91A21-2327-4C97-8018-BBC42CA7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F49E84-DE02-43F3-8CA1-3B57D389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BF033C-DADC-463F-89E4-0DF84300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25269F-0BE3-46C2-978C-0B60EDDB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6F667C-32BE-468F-83FB-14DD6917F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D3BAEA-D064-4752-B92D-21FB35202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53DA7A-6A68-4A31-982C-C63ABED3B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705456-BF56-4870-8D76-746ED836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4ECF46-5AC5-4888-8C71-CA7672F5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58278-13DA-4B7F-9436-92A768A7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795C5A-8029-43DA-BAB1-AF67A548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3E3D70-1D1A-4BE6-8796-2D87AB7A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B550F7-959E-4812-8C05-0DC43357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5358AF-F126-46AF-B1FC-20E9C0F4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1E19EF-E7EE-42F9-BED8-A5379F98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CC924F-25DE-491C-9735-CFD0155D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E72371-57BC-4CB7-82C6-D7902028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DA9736-28D2-4C72-A800-21F458BFB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09F7FC-6F99-451D-9497-DC81F3108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E42B74-1F8E-408A-86F4-A71FB3124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55E4-41FA-4096-A19A-8B00F4B96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E68C0C-BBF8-44B6-AF13-1FD8B498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A36006-5FD5-452E-AB8B-D8A93014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140306-D80A-40EA-9940-64E5C87B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9FB268-5483-4E15-8351-6E34A3D9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2DC7BB-34FA-4950-B83A-D563C8B3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6898E4-42EF-4EDD-AA02-90418DEF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8E3DF6-ACD0-41A4-B4F7-98B99ED7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8FC355-B602-47D6-BF5A-0E631BD7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A35F50-0A84-466C-B86C-924843EC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5CE4A8-60B0-4629-95AB-B2B4FD2C6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D2B17-78C6-4B7F-B650-755F391A4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1923C4-EFCF-4084-9252-0E87DADA4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FC3991-D4D1-47DC-895A-4A89E6F34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C74889-52CA-447B-937A-04FBBFF8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638848-3546-4544-93D6-FBB6FCCA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276738-6F88-4239-BD6F-B8F93AD2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79D4E6-DCB4-4FF9-B931-98EBC657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9DFABD-D7FC-4AEB-890F-7BAE8B36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70D6DA-115C-4B83-982D-620567C3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8175E4-3725-4DF7-BE49-D98FF227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127BE9-5FEB-406E-8C42-E67FC936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68382-0B03-4987-8955-06450B593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BFEEBF-29B8-41FC-A9EA-D21A2099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07A52C-FF0B-4647-B552-029842241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F2D9B0-AF64-4227-B63E-68480A2F3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2C3F2-157F-4A55-8AB2-5EF0B5AD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EB1F3-E6FB-4B6F-90C2-F42799BF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041B7-A5BB-431D-A5E1-E05F19A1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2273A-A7B0-4670-9ED7-B0C700E4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438D-C295-4F5F-BB65-2568F106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D70EA-3F7E-4253-B739-C75035FC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95F99-496D-45A7-8444-464D8603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7FB5E-382E-477C-A13D-32E01B9A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5F5FE-8945-45C0-85E3-C76D7A44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666C6-6E22-4E07-8D6D-D5930B7A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8DDAB-ACB9-42A8-8C1D-7A6ECF0EE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D7445-D4E8-48C1-B452-1AA4A93B0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C2BD6-C5C3-47C2-B613-D858D3B00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027B3-061A-44E2-8C70-37DBFBD8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BC228-0E74-41E8-91F5-A1B37BAF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334F-F079-48A8-84AB-28BA7949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28365-6D71-405B-84DA-2C287CB7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3FE5F-9866-476A-AA58-D3C829E1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C2D9A-EE8D-49E8-AA5A-D87FB879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85871-31DB-4702-9B75-66D04E1D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3644E-EE66-44CD-91E3-20998678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56853-7F02-4510-BE0D-DAAA26B0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14240-7A94-480C-9C0F-FAD9632E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02C90-86D6-4988-A605-EAEEB897A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9F815-71B2-4625-B613-42B5A7899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6A57C-A88E-4972-85BE-132D11D60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F6EC-A7F2-4A2E-953E-065F5D69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89A53-F5F2-4FF1-996A-FB91DA67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598E8-47B8-4BB8-9628-43C1770B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4C7B2-1ED5-4394-BEA0-5C0E91D1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B4C87-EA33-4C15-AFFA-1CFB2699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8A940-1DD2-4F05-9EC5-52198F3E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B1B00-8F21-404E-BC51-1DDBAD51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6E5A4-8644-4C5B-AF10-1CF51C5A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186C2-98A3-4F5A-869D-978DFC73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B2CAA-4D2E-401E-80CC-A82CDBF0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B5BAF-647C-4158-9E62-83CA2B4C0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9BA3-BBA3-4A1C-BBF4-897218BA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91A4E-A22B-410B-9027-331165CD0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D8C64-E600-4E2E-AFAF-E1480EF2B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700CE-2775-4DC1-8062-B574B086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577AC-4CCF-4124-B57C-51644C16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8E9A7-C46D-40EE-9863-C8D9D55E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3FF63-5A93-4DD4-BC97-70C51AFF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E5EF8-4D51-41E9-B6A8-0CBC4688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6BC7F-8AA4-4A80-BC88-5668F86C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42D32-A37F-4A0A-BFC7-9F22EF24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C745B-8145-4DE1-9097-4B38FFA6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AF76-CB97-4207-9220-F4A5F9DA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8F7AF-A810-41E4-98EA-57F1F16C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B2663-103A-4847-ADD4-9FFAF4B0B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8E0CB-20B7-45FD-835F-E93480CFE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48594-61CF-4731-AF5F-8D38375AD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CA324-1D37-4BAB-A9BB-558C110B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9D1E0-738D-4243-B5C5-6274D43D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E096F-6EE4-4BDA-9F45-733488F6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714DF-4591-410A-9DB6-1B645D2E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4C1D3-3FB2-42BE-8D71-87A68581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6E614-2CB8-48D9-8CCB-6F4BA2B8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9A3F-4F13-4040-B8D0-BFB40F6A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4EA4E-48AC-4EC5-A0F6-DF80E09A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C43DA-BD47-402E-BDAE-B70DE2D9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CF829-93E5-47F7-89E7-EDCA8F1A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ED6E5-F64C-418C-96ED-A4C7BD1C8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48A23-0AF5-4CAD-BF6E-192A0F3E5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12A26-E580-4F70-A772-C0C086D20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36466-2B41-42B8-97A2-A76FD88D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3D198-C1A6-4BCC-B783-126E5741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C5DFA-D384-4494-9586-EDFAAA9F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90B7F-9AA1-44B5-9378-26BC1A886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5193-C500-420A-B99F-38C0294D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B7847-FB95-449C-93F0-086B0154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C1384-5822-4062-84AC-56963DE7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8524C-4507-4E61-8728-30AD5AA5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A2749-475E-4257-81A8-BE6902E9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2EC49-FAF1-4890-8109-A8DDD02E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B1E2B-371B-48D3-BDAE-03A418994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3D8AB-10E4-4995-8D88-CE51D485C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988597-1525-4444-85AF-F5897A004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149BB0-3A62-4163-B62E-4807B91F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F5F3B8-812D-489E-B248-D0E776254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1C43-C0E1-4F62-B3FA-7F274A49F0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7A16-4EF1-48E7-B62F-8F9FFE0BBF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BBD0-4392-4040-891E-18CF142E86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5B26-48A7-4CE8-B776-65C6DE2E3A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DA67-47D1-40B8-8B46-DF1C50217E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CB37-0ED2-4910-8A48-94D7B3F923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E81E-DF58-42E9-BD32-67E4166326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29B6-9227-4CE1-9091-4FDD8A4BC0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C4B7-BA48-46FF-8FE4-0E8C7C9ED7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0119-1C6A-469C-8638-65B2C3F1C0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4DD8-AAA3-4100-AE73-E464381560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B201-954C-4963-8E36-93C437EBDB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8DBD-C7D9-4434-8E43-1E383E63F1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8F3C-FCF5-4DED-B93E-48FBA5EBAF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F908-6E70-4E84-A21A-8F480FA39F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C8C6-9BAF-4D0F-B864-7BF94C1EFA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CFF6-00DD-40FE-A9A1-89CBA2AFC7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8A42-E95A-4181-AEC0-6CE0EBEED2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D972-268B-4AA3-A713-4EA4D1A4DB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0ED7-FA6B-449B-82B8-21599E0E66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6BB7-396F-4E04-8449-57612C13F9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89E1-4B6A-40B1-8785-BE98862FFC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8A6D-B8DF-4124-88B6-43B819F852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8914-B5AF-4FC1-A3A6-7C34235C28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D9EE-29BA-4A4A-8C07-10FF4D5284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B97D-D524-462C-853C-DB3E0E44CB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60A2-71E4-4398-A030-3D3A24DE95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399B-00DA-4B11-8C70-8388462A12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EBE8-7685-42BC-9E9C-C728BDE9C3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8C28-6174-42C5-B249-8AFEA3672C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F096-DE3A-4A38-A200-D9395321C8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F198-7BA2-4EE6-BEBC-8C991CE20D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E4A5-40A5-4521-9A87-B0F0432DA8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7710-730A-4C4F-B2FF-8287C3343F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62CE-B43E-4ABF-8F21-71111B4BF7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31CD-05E5-4327-8E1D-0E8F554274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66EB-BA15-4148-9488-7BA35713A7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EE91-8724-49D0-9E87-0F0205BCAE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9E69-5AD7-4005-A4B9-DC158902E1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302C-D88B-4E02-8B44-C1B43A288D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1" descr="QQ图片20200731093914"/>
          <p:cNvPicPr/>
          <p:nvPr/>
        </p:nvPicPr>
        <p:blipFill>
          <a:blip r:embed="rId1"/>
          <a:stretch/>
        </p:blipFill>
        <p:spPr>
          <a:xfrm>
            <a:off x="328680" y="2319480"/>
            <a:ext cx="857232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9" name="组合 69635"/>
          <p:cNvGrpSpPr/>
          <p:nvPr/>
        </p:nvGrpSpPr>
        <p:grpSpPr>
          <a:xfrm>
            <a:off x="471600" y="942840"/>
            <a:ext cx="8200800" cy="5550120"/>
            <a:chOff x="471600" y="942840"/>
            <a:chExt cx="8200800" cy="5550120"/>
          </a:xfrm>
        </p:grpSpPr>
        <p:pic>
          <p:nvPicPr>
            <p:cNvPr id="1070" name="图片 69633" descr=""/>
            <p:cNvPicPr/>
            <p:nvPr/>
          </p:nvPicPr>
          <p:blipFill>
            <a:blip r:embed="rId1"/>
            <a:stretch/>
          </p:blipFill>
          <p:spPr>
            <a:xfrm>
              <a:off x="471600" y="942840"/>
              <a:ext cx="8200800" cy="49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1" name="图片 69634" descr=""/>
            <p:cNvPicPr/>
            <p:nvPr/>
          </p:nvPicPr>
          <p:blipFill>
            <a:blip r:embed="rId2"/>
            <a:stretch/>
          </p:blipFill>
          <p:spPr>
            <a:xfrm>
              <a:off x="1332000" y="6093000"/>
              <a:ext cx="1933560" cy="399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2" name="图片 69636" descr=""/>
          <p:cNvPicPr/>
          <p:nvPr/>
        </p:nvPicPr>
        <p:blipFill>
          <a:blip r:embed="rId3"/>
          <a:stretch/>
        </p:blipFill>
        <p:spPr>
          <a:xfrm>
            <a:off x="684360" y="1557360"/>
            <a:ext cx="2876400" cy="1857240"/>
          </a:xfrm>
          <a:prstGeom prst="rect">
            <a:avLst/>
          </a:prstGeom>
          <a:ln w="0">
            <a:noFill/>
          </a:ln>
        </p:spPr>
      </p:pic>
      <p:pic>
        <p:nvPicPr>
          <p:cNvPr id="1073" name="图片 69637" descr=""/>
          <p:cNvPicPr/>
          <p:nvPr/>
        </p:nvPicPr>
        <p:blipFill>
          <a:blip r:embed="rId4"/>
          <a:stretch/>
        </p:blipFill>
        <p:spPr>
          <a:xfrm>
            <a:off x="4030560" y="1484280"/>
            <a:ext cx="1981440" cy="1847880"/>
          </a:xfrm>
          <a:prstGeom prst="rect">
            <a:avLst/>
          </a:prstGeom>
          <a:ln w="0">
            <a:noFill/>
          </a:ln>
        </p:spPr>
      </p:pic>
      <p:pic>
        <p:nvPicPr>
          <p:cNvPr id="1074" name="图片 69638" descr=""/>
          <p:cNvPicPr/>
          <p:nvPr/>
        </p:nvPicPr>
        <p:blipFill>
          <a:blip r:embed="rId5"/>
          <a:stretch/>
        </p:blipFill>
        <p:spPr>
          <a:xfrm>
            <a:off x="6516720" y="1309680"/>
            <a:ext cx="2181240" cy="2048040"/>
          </a:xfrm>
          <a:prstGeom prst="rect">
            <a:avLst/>
          </a:prstGeom>
          <a:ln w="0">
            <a:noFill/>
          </a:ln>
        </p:spPr>
      </p:pic>
      <p:pic>
        <p:nvPicPr>
          <p:cNvPr id="1075" name="图片 69639" descr=""/>
          <p:cNvPicPr/>
          <p:nvPr/>
        </p:nvPicPr>
        <p:blipFill>
          <a:blip r:embed="rId6"/>
          <a:stretch/>
        </p:blipFill>
        <p:spPr>
          <a:xfrm>
            <a:off x="1116000" y="4211640"/>
            <a:ext cx="1638360" cy="1114560"/>
          </a:xfrm>
          <a:prstGeom prst="rect">
            <a:avLst/>
          </a:prstGeom>
          <a:ln w="0">
            <a:noFill/>
          </a:ln>
        </p:spPr>
      </p:pic>
      <p:pic>
        <p:nvPicPr>
          <p:cNvPr id="1076" name="图片 69640" descr=""/>
          <p:cNvPicPr/>
          <p:nvPr/>
        </p:nvPicPr>
        <p:blipFill>
          <a:blip r:embed="rId7"/>
          <a:stretch/>
        </p:blipFill>
        <p:spPr>
          <a:xfrm>
            <a:off x="3132000" y="4206960"/>
            <a:ext cx="1638360" cy="1114200"/>
          </a:xfrm>
          <a:prstGeom prst="rect">
            <a:avLst/>
          </a:prstGeom>
          <a:ln w="0">
            <a:noFill/>
          </a:ln>
        </p:spPr>
      </p:pic>
      <p:pic>
        <p:nvPicPr>
          <p:cNvPr id="1077" name="图片 69641" descr=""/>
          <p:cNvPicPr/>
          <p:nvPr/>
        </p:nvPicPr>
        <p:blipFill>
          <a:blip r:embed="rId8"/>
          <a:stretch/>
        </p:blipFill>
        <p:spPr>
          <a:xfrm>
            <a:off x="5076720" y="4221000"/>
            <a:ext cx="1638360" cy="1114560"/>
          </a:xfrm>
          <a:prstGeom prst="rect">
            <a:avLst/>
          </a:prstGeom>
          <a:ln w="0">
            <a:noFill/>
          </a:ln>
        </p:spPr>
      </p:pic>
      <p:pic>
        <p:nvPicPr>
          <p:cNvPr id="1078" name="图片 69642" descr=""/>
          <p:cNvPicPr/>
          <p:nvPr/>
        </p:nvPicPr>
        <p:blipFill>
          <a:blip r:embed="rId9"/>
          <a:stretch/>
        </p:blipFill>
        <p:spPr>
          <a:xfrm>
            <a:off x="7058160" y="4230720"/>
            <a:ext cx="163800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2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7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2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7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2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7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2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9" name="图片 68609" descr=""/>
          <p:cNvPicPr/>
          <p:nvPr/>
        </p:nvPicPr>
        <p:blipFill>
          <a:blip r:embed="rId1"/>
          <a:stretch/>
        </p:blipFill>
        <p:spPr>
          <a:xfrm>
            <a:off x="623880" y="1967040"/>
            <a:ext cx="7896240" cy="292392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2"/>
          <a:stretch/>
        </p:blipFill>
        <p:spPr>
          <a:xfrm>
            <a:off x="1042920" y="4527720"/>
            <a:ext cx="3241800" cy="31896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3"/>
          <a:stretch/>
        </p:blipFill>
        <p:spPr>
          <a:xfrm>
            <a:off x="5219640" y="4527720"/>
            <a:ext cx="324180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2" name="图片 67585" descr=""/>
          <p:cNvPicPr/>
          <p:nvPr/>
        </p:nvPicPr>
        <p:blipFill>
          <a:blip r:embed="rId1"/>
          <a:stretch/>
        </p:blipFill>
        <p:spPr>
          <a:xfrm>
            <a:off x="1095480" y="2009880"/>
            <a:ext cx="6953040" cy="283824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2"/>
          <a:stretch/>
        </p:blipFill>
        <p:spPr>
          <a:xfrm>
            <a:off x="1692360" y="395280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3"/>
          <a:stretch/>
        </p:blipFill>
        <p:spPr>
          <a:xfrm>
            <a:off x="1692360" y="450864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1" descr=""/>
          <p:cNvPicPr/>
          <p:nvPr/>
        </p:nvPicPr>
        <p:blipFill>
          <a:blip r:embed="rId4"/>
          <a:stretch/>
        </p:blipFill>
        <p:spPr>
          <a:xfrm>
            <a:off x="6516720" y="4005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1" descr=""/>
          <p:cNvPicPr/>
          <p:nvPr/>
        </p:nvPicPr>
        <p:blipFill>
          <a:blip r:embed="rId5"/>
          <a:stretch/>
        </p:blipFill>
        <p:spPr>
          <a:xfrm>
            <a:off x="6516720" y="4508640"/>
            <a:ext cx="3589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1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1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6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7" name="图片 66561" descr=""/>
          <p:cNvPicPr/>
          <p:nvPr/>
        </p:nvPicPr>
        <p:blipFill>
          <a:blip r:embed="rId1"/>
          <a:stretch/>
        </p:blipFill>
        <p:spPr>
          <a:xfrm>
            <a:off x="109440" y="2071800"/>
            <a:ext cx="8925120" cy="271440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" descr=""/>
          <p:cNvPicPr/>
          <p:nvPr/>
        </p:nvPicPr>
        <p:blipFill>
          <a:blip r:embed="rId2"/>
          <a:stretch/>
        </p:blipFill>
        <p:spPr>
          <a:xfrm>
            <a:off x="611280" y="3038400"/>
            <a:ext cx="6192720" cy="1398600"/>
          </a:xfrm>
          <a:prstGeom prst="rect">
            <a:avLst/>
          </a:prstGeom>
          <a:ln w="0">
            <a:noFill/>
          </a:ln>
        </p:spPr>
      </p:pic>
      <p:pic>
        <p:nvPicPr>
          <p:cNvPr id="1089" name="图片 66563" descr=""/>
          <p:cNvPicPr/>
          <p:nvPr/>
        </p:nvPicPr>
        <p:blipFill>
          <a:blip r:embed="rId3"/>
          <a:stretch/>
        </p:blipFill>
        <p:spPr>
          <a:xfrm>
            <a:off x="6386400" y="2968560"/>
            <a:ext cx="266724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3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8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0" name="图片 65537" descr=""/>
          <p:cNvPicPr/>
          <p:nvPr/>
        </p:nvPicPr>
        <p:blipFill>
          <a:blip r:embed="rId1"/>
          <a:stretch/>
        </p:blipFill>
        <p:spPr>
          <a:xfrm>
            <a:off x="252360" y="2048040"/>
            <a:ext cx="8639280" cy="276192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1" descr=""/>
          <p:cNvPicPr/>
          <p:nvPr/>
        </p:nvPicPr>
        <p:blipFill>
          <a:blip r:embed="rId2"/>
          <a:stretch/>
        </p:blipFill>
        <p:spPr>
          <a:xfrm>
            <a:off x="539640" y="2997360"/>
            <a:ext cx="5327640" cy="31896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1" descr=""/>
          <p:cNvPicPr/>
          <p:nvPr/>
        </p:nvPicPr>
        <p:blipFill>
          <a:blip r:embed="rId3"/>
          <a:stretch/>
        </p:blipFill>
        <p:spPr>
          <a:xfrm>
            <a:off x="468360" y="3500280"/>
            <a:ext cx="5327640" cy="31932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1" descr=""/>
          <p:cNvPicPr/>
          <p:nvPr/>
        </p:nvPicPr>
        <p:blipFill>
          <a:blip r:embed="rId4"/>
          <a:stretch/>
        </p:blipFill>
        <p:spPr>
          <a:xfrm>
            <a:off x="539640" y="4005360"/>
            <a:ext cx="5327640" cy="31896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1" descr=""/>
          <p:cNvPicPr/>
          <p:nvPr/>
        </p:nvPicPr>
        <p:blipFill>
          <a:blip r:embed="rId5"/>
          <a:stretch/>
        </p:blipFill>
        <p:spPr>
          <a:xfrm>
            <a:off x="539640" y="4518000"/>
            <a:ext cx="532764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5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0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5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0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5" name="图片 64513" descr=""/>
          <p:cNvPicPr/>
          <p:nvPr/>
        </p:nvPicPr>
        <p:blipFill>
          <a:blip r:embed="rId1"/>
          <a:stretch/>
        </p:blipFill>
        <p:spPr>
          <a:xfrm>
            <a:off x="290520" y="1828800"/>
            <a:ext cx="8562960" cy="320040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1" descr=""/>
          <p:cNvPicPr/>
          <p:nvPr/>
        </p:nvPicPr>
        <p:blipFill>
          <a:blip r:embed="rId2"/>
          <a:stretch/>
        </p:blipFill>
        <p:spPr>
          <a:xfrm>
            <a:off x="468360" y="3692520"/>
            <a:ext cx="8424720" cy="31896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1" descr=""/>
          <p:cNvPicPr/>
          <p:nvPr/>
        </p:nvPicPr>
        <p:blipFill>
          <a:blip r:embed="rId3"/>
          <a:stretch/>
        </p:blipFill>
        <p:spPr>
          <a:xfrm>
            <a:off x="539640" y="4149720"/>
            <a:ext cx="8425080" cy="31896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1" descr=""/>
          <p:cNvPicPr/>
          <p:nvPr/>
        </p:nvPicPr>
        <p:blipFill>
          <a:blip r:embed="rId4"/>
          <a:stretch/>
        </p:blipFill>
        <p:spPr>
          <a:xfrm>
            <a:off x="539640" y="4695840"/>
            <a:ext cx="842508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7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2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60428" descr=""/>
          <p:cNvPicPr/>
          <p:nvPr/>
        </p:nvPicPr>
        <p:blipFill>
          <a:blip r:embed="rId1"/>
          <a:stretch/>
        </p:blipFill>
        <p:spPr>
          <a:xfrm>
            <a:off x="104760" y="1504800"/>
            <a:ext cx="8934480" cy="384840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755640" y="357336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2771640" y="357336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4"/>
          <a:stretch/>
        </p:blipFill>
        <p:spPr>
          <a:xfrm>
            <a:off x="4859280" y="357336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5"/>
          <a:stretch/>
        </p:blipFill>
        <p:spPr>
          <a:xfrm>
            <a:off x="6948360" y="35290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6"/>
          <a:stretch/>
        </p:blipFill>
        <p:spPr>
          <a:xfrm>
            <a:off x="755640" y="5013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7"/>
          <a:stretch/>
        </p:blipFill>
        <p:spPr>
          <a:xfrm>
            <a:off x="2843280" y="50133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8"/>
          <a:stretch/>
        </p:blipFill>
        <p:spPr>
          <a:xfrm>
            <a:off x="4859280" y="5013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9"/>
          <a:stretch/>
        </p:blipFill>
        <p:spPr>
          <a:xfrm>
            <a:off x="6877080" y="5013360"/>
            <a:ext cx="3589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图片 59410" descr=""/>
          <p:cNvPicPr/>
          <p:nvPr/>
        </p:nvPicPr>
        <p:blipFill>
          <a:blip r:embed="rId1"/>
          <a:stretch/>
        </p:blipFill>
        <p:spPr>
          <a:xfrm>
            <a:off x="100080" y="1424160"/>
            <a:ext cx="8943840" cy="40096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2"/>
          <a:stretch/>
        </p:blipFill>
        <p:spPr>
          <a:xfrm>
            <a:off x="5508720" y="1844640"/>
            <a:ext cx="718920" cy="3189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3"/>
          <a:stretch/>
        </p:blipFill>
        <p:spPr>
          <a:xfrm>
            <a:off x="6877080" y="1863720"/>
            <a:ext cx="719280" cy="3189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4"/>
          <a:stretch/>
        </p:blipFill>
        <p:spPr>
          <a:xfrm>
            <a:off x="1908000" y="2349360"/>
            <a:ext cx="1224000" cy="3193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5"/>
          <a:stretch/>
        </p:blipFill>
        <p:spPr>
          <a:xfrm>
            <a:off x="4716360" y="2349360"/>
            <a:ext cx="1224000" cy="3193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6"/>
          <a:stretch/>
        </p:blipFill>
        <p:spPr>
          <a:xfrm>
            <a:off x="3160800" y="2800440"/>
            <a:ext cx="647640" cy="3189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7"/>
          <a:stretch/>
        </p:blipFill>
        <p:spPr>
          <a:xfrm>
            <a:off x="8172360" y="2800440"/>
            <a:ext cx="432000" cy="3189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8"/>
          <a:stretch/>
        </p:blipFill>
        <p:spPr>
          <a:xfrm>
            <a:off x="4284720" y="3735360"/>
            <a:ext cx="1224000" cy="3189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9"/>
          <a:stretch/>
        </p:blipFill>
        <p:spPr>
          <a:xfrm>
            <a:off x="1187280" y="4221000"/>
            <a:ext cx="792360" cy="3193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10"/>
          <a:stretch/>
        </p:blipFill>
        <p:spPr>
          <a:xfrm>
            <a:off x="971640" y="4714920"/>
            <a:ext cx="1224000" cy="3189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11"/>
          <a:stretch/>
        </p:blipFill>
        <p:spPr>
          <a:xfrm>
            <a:off x="7812000" y="4681440"/>
            <a:ext cx="79236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图片 58373" descr=""/>
          <p:cNvPicPr/>
          <p:nvPr/>
        </p:nvPicPr>
        <p:blipFill>
          <a:blip r:embed="rId1"/>
          <a:stretch/>
        </p:blipFill>
        <p:spPr>
          <a:xfrm>
            <a:off x="266760" y="2205000"/>
            <a:ext cx="8610480" cy="24480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5796000" y="227664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2556000" y="270828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4"/>
          <a:stretch/>
        </p:blipFill>
        <p:spPr>
          <a:xfrm>
            <a:off x="5003640" y="3222720"/>
            <a:ext cx="1081080" cy="3189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5"/>
          <a:stretch/>
        </p:blipFill>
        <p:spPr>
          <a:xfrm>
            <a:off x="2916360" y="4149720"/>
            <a:ext cx="647640" cy="31896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6"/>
          <a:stretch/>
        </p:blipFill>
        <p:spPr>
          <a:xfrm>
            <a:off x="7308720" y="4159080"/>
            <a:ext cx="64800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图片 57352" descr=""/>
          <p:cNvPicPr/>
          <p:nvPr/>
        </p:nvPicPr>
        <p:blipFill>
          <a:blip r:embed="rId1"/>
          <a:stretch/>
        </p:blipFill>
        <p:spPr>
          <a:xfrm>
            <a:off x="109440" y="1704960"/>
            <a:ext cx="8925120" cy="34480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2"/>
          <a:stretch/>
        </p:blipFill>
        <p:spPr>
          <a:xfrm>
            <a:off x="8317080" y="270828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3"/>
          <a:stretch/>
        </p:blipFill>
        <p:spPr>
          <a:xfrm>
            <a:off x="8388360" y="321300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4"/>
          <a:stretch/>
        </p:blipFill>
        <p:spPr>
          <a:xfrm>
            <a:off x="8388360" y="3789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5"/>
          <a:stretch/>
        </p:blipFill>
        <p:spPr>
          <a:xfrm>
            <a:off x="8388360" y="429264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6"/>
          <a:stretch/>
        </p:blipFill>
        <p:spPr>
          <a:xfrm>
            <a:off x="8388360" y="4797360"/>
            <a:ext cx="35892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图片 56324" descr=""/>
          <p:cNvPicPr/>
          <p:nvPr/>
        </p:nvPicPr>
        <p:blipFill>
          <a:blip r:embed="rId1"/>
          <a:stretch/>
        </p:blipFill>
        <p:spPr>
          <a:xfrm>
            <a:off x="214200" y="995400"/>
            <a:ext cx="8715600" cy="486720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2"/>
          <a:stretch/>
        </p:blipFill>
        <p:spPr>
          <a:xfrm>
            <a:off x="3097080" y="1503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3"/>
          <a:stretch/>
        </p:blipFill>
        <p:spPr>
          <a:xfrm>
            <a:off x="4859280" y="249228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4"/>
          <a:stretch/>
        </p:blipFill>
        <p:spPr>
          <a:xfrm>
            <a:off x="7524720" y="3933720"/>
            <a:ext cx="35892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图片 55300" descr=""/>
          <p:cNvPicPr/>
          <p:nvPr/>
        </p:nvPicPr>
        <p:blipFill>
          <a:blip r:embed="rId1"/>
          <a:stretch/>
        </p:blipFill>
        <p:spPr>
          <a:xfrm>
            <a:off x="271440" y="2238480"/>
            <a:ext cx="8601120" cy="238104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2"/>
          <a:stretch/>
        </p:blipFill>
        <p:spPr>
          <a:xfrm>
            <a:off x="2195640" y="227664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3"/>
          <a:stretch/>
        </p:blipFill>
        <p:spPr>
          <a:xfrm>
            <a:off x="1763640" y="3763800"/>
            <a:ext cx="35892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图片 54276" descr=""/>
          <p:cNvPicPr/>
          <p:nvPr/>
        </p:nvPicPr>
        <p:blipFill>
          <a:blip r:embed="rId1"/>
          <a:stretch/>
        </p:blipFill>
        <p:spPr>
          <a:xfrm>
            <a:off x="162000" y="2333520"/>
            <a:ext cx="8820000" cy="219096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2"/>
          <a:stretch/>
        </p:blipFill>
        <p:spPr>
          <a:xfrm>
            <a:off x="5435640" y="3213000"/>
            <a:ext cx="1512720" cy="1584360"/>
          </a:xfrm>
          <a:prstGeom prst="rect">
            <a:avLst/>
          </a:prstGeom>
          <a:ln w="0">
            <a:noFill/>
          </a:ln>
        </p:spPr>
      </p:pic>
      <p:pic>
        <p:nvPicPr>
          <p:cNvPr id="1064" name="图片 54278" descr=""/>
          <p:cNvPicPr/>
          <p:nvPr/>
        </p:nvPicPr>
        <p:blipFill>
          <a:blip r:embed="rId3"/>
          <a:stretch/>
        </p:blipFill>
        <p:spPr>
          <a:xfrm>
            <a:off x="1547640" y="3284640"/>
            <a:ext cx="24289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图片 52231" descr=""/>
          <p:cNvPicPr/>
          <p:nvPr/>
        </p:nvPicPr>
        <p:blipFill>
          <a:blip r:embed="rId1"/>
          <a:stretch/>
        </p:blipFill>
        <p:spPr>
          <a:xfrm>
            <a:off x="442800" y="1224000"/>
            <a:ext cx="8258400" cy="441000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2"/>
          <a:stretch/>
        </p:blipFill>
        <p:spPr>
          <a:xfrm>
            <a:off x="5479920" y="2717640"/>
            <a:ext cx="892440" cy="216000"/>
          </a:xfrm>
          <a:prstGeom prst="rect">
            <a:avLst/>
          </a:prstGeom>
          <a:ln w="0">
            <a:noFill/>
          </a:ln>
        </p:spPr>
      </p:pic>
      <p:pic>
        <p:nvPicPr>
          <p:cNvPr id="1067" name="图片 52233" descr=""/>
          <p:cNvPicPr/>
          <p:nvPr/>
        </p:nvPicPr>
        <p:blipFill>
          <a:blip r:embed="rId3"/>
          <a:stretch/>
        </p:blipFill>
        <p:spPr>
          <a:xfrm>
            <a:off x="1089000" y="1687680"/>
            <a:ext cx="3267000" cy="2028600"/>
          </a:xfrm>
          <a:prstGeom prst="rect">
            <a:avLst/>
          </a:prstGeom>
          <a:ln w="0">
            <a:noFill/>
          </a:ln>
        </p:spPr>
      </p:pic>
      <p:pic>
        <p:nvPicPr>
          <p:cNvPr id="1068" name="图片 52234" descr=""/>
          <p:cNvPicPr/>
          <p:nvPr/>
        </p:nvPicPr>
        <p:blipFill>
          <a:blip r:embed="rId4"/>
          <a:stretch/>
        </p:blipFill>
        <p:spPr>
          <a:xfrm>
            <a:off x="3630600" y="4365720"/>
            <a:ext cx="3029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5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5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31T02:45:29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